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BCA-DA66-4EF5-9529-C63F867C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028F-927A-4826-8DDA-72526535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47A-158C-419F-BDA8-24201694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04D-8F63-4D96-99BC-3916F949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127-E940-4184-80D2-DA372C7D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A27-9CC7-47AF-9E53-F2550B33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AED-0E66-4361-AD6C-09173155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CD2-5307-4A89-B8CB-87BF96EB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29C-8B25-466E-A635-B083F551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EA3-F242-4172-AF34-943D4D89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DC2-0679-4EEE-8620-510CED03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712-FD67-4DBD-896B-6A6BD07F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2609-794A-4E15-89A0-4FC886E52C2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2928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éminaire de Sherbro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EAM 26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 4" descr="first.jpg"/>
          <p:cNvPicPr/>
          <p:nvPr/>
        </p:nvPicPr>
        <p:blipFill>
          <a:blip r:embed="rId1"/>
          <a:stretch/>
        </p:blipFill>
        <p:spPr>
          <a:xfrm>
            <a:off x="7329600" y="142920"/>
            <a:ext cx="1671480" cy="1455840"/>
          </a:xfrm>
          <a:prstGeom prst="rect">
            <a:avLst/>
          </a:prstGeom>
          <a:ln w="0">
            <a:noFill/>
          </a:ln>
        </p:spPr>
      </p:pic>
      <p:pic>
        <p:nvPicPr>
          <p:cNvPr id="4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45" name="Sous-titre 2"/>
          <p:cNvSpPr/>
          <p:nvPr/>
        </p:nvSpPr>
        <p:spPr>
          <a:xfrm>
            <a:off x="285840" y="5715000"/>
            <a:ext cx="514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Camp Sav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Samedi 12 décembre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</a:rPr>
              <a:t>Créer la structure fonctionnelle détaillé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pic>
        <p:nvPicPr>
          <p:cNvPr id="138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1500120" y="2428920"/>
            <a:ext cx="5643720" cy="335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Connecteur droit avec flèche 9"/>
          <p:cNvCxnSpPr>
            <a:endCxn id="141" idx="0"/>
          </p:cNvCxnSpPr>
          <p:nvPr/>
        </p:nvCxnSpPr>
        <p:spPr>
          <a:xfrm>
            <a:off x="5429160" y="2142720"/>
            <a:ext cx="37440" cy="7153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2" name="ZoneTexte 10"/>
          <p:cNvSpPr/>
          <p:nvPr/>
        </p:nvSpPr>
        <p:spPr>
          <a:xfrm>
            <a:off x="5500800" y="17859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3" name="Connecteur droit avec flèche 11"/>
          <p:cNvCxnSpPr>
            <a:endCxn id="144" idx="1"/>
          </p:cNvCxnSpPr>
          <p:nvPr/>
        </p:nvCxnSpPr>
        <p:spPr>
          <a:xfrm flipV="1">
            <a:off x="642600" y="3347280"/>
            <a:ext cx="1500840" cy="1044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5" name="ZoneTexte 12"/>
          <p:cNvSpPr/>
          <p:nvPr/>
        </p:nvSpPr>
        <p:spPr>
          <a:xfrm>
            <a:off x="642960" y="30002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Connecteur droit avec flèche 13"/>
          <p:cNvCxnSpPr>
            <a:stCxn id="141" idx="2"/>
            <a:endCxn id="147" idx="0"/>
          </p:cNvCxnSpPr>
          <p:nvPr/>
        </p:nvCxnSpPr>
        <p:spPr>
          <a:xfrm flipH="1">
            <a:off x="5463360" y="3838680"/>
            <a:ext cx="2520" cy="52128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44" name="Rectangle 20"/>
          <p:cNvSpPr/>
          <p:nvPr/>
        </p:nvSpPr>
        <p:spPr>
          <a:xfrm>
            <a:off x="2143080" y="2857680"/>
            <a:ext cx="1785960" cy="9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og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4572000" y="2857680"/>
            <a:ext cx="1785960" cy="9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Grill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4572000" y="4357800"/>
            <a:ext cx="1785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Avertir que c’est prê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Connecteur droit avec flèche 73"/>
          <p:cNvCxnSpPr>
            <a:stCxn id="144" idx="3"/>
            <a:endCxn id="141" idx="1"/>
          </p:cNvCxnSpPr>
          <p:nvPr/>
        </p:nvCxnSpPr>
        <p:spPr>
          <a:xfrm>
            <a:off x="3929040" y="3347640"/>
            <a:ext cx="643320" cy="252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49" name="Rectangle 77"/>
          <p:cNvSpPr/>
          <p:nvPr/>
        </p:nvSpPr>
        <p:spPr>
          <a:xfrm>
            <a:off x="2143080" y="4357800"/>
            <a:ext cx="1785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Expuls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Connecteur droit avec flèche 52"/>
          <p:cNvCxnSpPr>
            <a:stCxn id="141" idx="2"/>
            <a:endCxn id="149" idx="0"/>
          </p:cNvCxnSpPr>
          <p:nvPr/>
        </p:nvCxnSpPr>
        <p:spPr>
          <a:xfrm flipH="1">
            <a:off x="3034800" y="3836520"/>
            <a:ext cx="2431440" cy="52164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cxnSp>
        <p:nvCxnSpPr>
          <p:cNvPr id="151" name="Connecteur droit avec flèche 63"/>
          <p:cNvCxnSpPr>
            <a:stCxn id="149" idx="2"/>
          </p:cNvCxnSpPr>
          <p:nvPr/>
        </p:nvCxnSpPr>
        <p:spPr>
          <a:xfrm>
            <a:off x="3035160" y="5214600"/>
            <a:ext cx="37440" cy="107244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2" name="ZoneTexte 67"/>
          <p:cNvSpPr/>
          <p:nvPr/>
        </p:nvSpPr>
        <p:spPr>
          <a:xfrm>
            <a:off x="3071880" y="58579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Connecteur droit avec flèche 24"/>
          <p:cNvCxnSpPr>
            <a:stCxn id="147" idx="2"/>
          </p:cNvCxnSpPr>
          <p:nvPr/>
        </p:nvCxnSpPr>
        <p:spPr>
          <a:xfrm>
            <a:off x="5464800" y="5214600"/>
            <a:ext cx="35640" cy="78660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54" name="ZoneTexte 27"/>
          <p:cNvSpPr/>
          <p:nvPr/>
        </p:nvSpPr>
        <p:spPr>
          <a:xfrm>
            <a:off x="5429160" y="59166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ALE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500120" y="2428920"/>
            <a:ext cx="5643720" cy="335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4"/>
          <p:cNvSpPr/>
          <p:nvPr/>
        </p:nvSpPr>
        <p:spPr>
          <a:xfrm>
            <a:off x="4429080" y="4214880"/>
            <a:ext cx="20718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4357800" y="2643120"/>
            <a:ext cx="2143080" cy="142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1928880" y="2714760"/>
            <a:ext cx="2143080" cy="27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réer les sous-systè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pic>
        <p:nvPicPr>
          <p:cNvPr id="162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163" name="ZoneTexte 14"/>
          <p:cNvSpPr/>
          <p:nvPr/>
        </p:nvSpPr>
        <p:spPr>
          <a:xfrm>
            <a:off x="3429000" y="3111480"/>
            <a:ext cx="85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Calibri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2143080" y="2857680"/>
            <a:ext cx="1785960" cy="9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og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4572000" y="2857680"/>
            <a:ext cx="1785960" cy="9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Grill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4572000" y="4357800"/>
            <a:ext cx="1785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Avertir que c’est prê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77"/>
          <p:cNvSpPr/>
          <p:nvPr/>
        </p:nvSpPr>
        <p:spPr>
          <a:xfrm>
            <a:off x="2143080" y="4357800"/>
            <a:ext cx="1785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Expuls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24"/>
          <p:cNvSpPr/>
          <p:nvPr/>
        </p:nvSpPr>
        <p:spPr>
          <a:xfrm>
            <a:off x="71280" y="4286160"/>
            <a:ext cx="17146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SOUS-SYSTÈ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LOGEMENT ET EXPUL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Connecteur droit avec flèche 26"/>
          <p:cNvCxnSpPr>
            <a:stCxn id="168" idx="0"/>
            <a:endCxn id="158" idx="1"/>
          </p:cNvCxnSpPr>
          <p:nvPr/>
        </p:nvCxnSpPr>
        <p:spPr>
          <a:xfrm flipV="1">
            <a:off x="928800" y="4071240"/>
            <a:ext cx="1000800" cy="2149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0" name="ZoneTexte 29"/>
          <p:cNvSpPr/>
          <p:nvPr/>
        </p:nvSpPr>
        <p:spPr>
          <a:xfrm>
            <a:off x="6858000" y="2928960"/>
            <a:ext cx="1857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SOUS-SYSTÈ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GRILL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1" name="Connecteur droit avec flèche 31"/>
          <p:cNvCxnSpPr>
            <a:stCxn id="170" idx="1"/>
            <a:endCxn id="157" idx="3"/>
          </p:cNvCxnSpPr>
          <p:nvPr/>
        </p:nvCxnSpPr>
        <p:spPr>
          <a:xfrm flipH="1">
            <a:off x="6500520" y="3251880"/>
            <a:ext cx="357840" cy="1054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ZoneTexte 36"/>
          <p:cNvSpPr/>
          <p:nvPr/>
        </p:nvSpPr>
        <p:spPr>
          <a:xfrm>
            <a:off x="6929280" y="4500720"/>
            <a:ext cx="185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SOUS-SYSTÈ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ALE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Connecteur droit avec flèche 37"/>
          <p:cNvCxnSpPr>
            <a:stCxn id="172" idx="1"/>
            <a:endCxn id="156" idx="3"/>
          </p:cNvCxnSpPr>
          <p:nvPr/>
        </p:nvCxnSpPr>
        <p:spPr>
          <a:xfrm flipH="1" flipV="1">
            <a:off x="6500520" y="4785840"/>
            <a:ext cx="429120" cy="388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174" name="ZoneTexte 40" descr=""/>
          <p:cNvPicPr/>
          <p:nvPr/>
        </p:nvPicPr>
        <p:blipFill>
          <a:blip r:embed="rId3"/>
          <a:stretch/>
        </p:blipFill>
        <p:spPr>
          <a:xfrm>
            <a:off x="1427040" y="1682640"/>
            <a:ext cx="381492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GÉNÉRATION DE CONCE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178" name="Sous-titre 2"/>
          <p:cNvSpPr/>
          <p:nvPr/>
        </p:nvSpPr>
        <p:spPr>
          <a:xfrm>
            <a:off x="214200" y="1928880"/>
            <a:ext cx="864396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À ce point, les cerveaux commencent à se réchauffer un peu plu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On nomme un responsable par sous-systè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Chaque équipe de sous-système travaille pour sortir des concepts qui vont accomplir SES fonc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Attitude ouverte, positive, TOUT est b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On garde les 4 meilleurs concepts par sous-fonction pour entrer dans la matrice morphologique 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(voir page suivant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Matrice morph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183" name="Sous-titre 2"/>
          <p:cNvSpPr/>
          <p:nvPr/>
        </p:nvSpPr>
        <p:spPr>
          <a:xfrm>
            <a:off x="500040" y="1857240"/>
            <a:ext cx="83581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RAPPEL: Sert à visualiser les combinaisons de concepts possi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857160" y="2809800"/>
          <a:ext cx="7215120" cy="2905200"/>
        </p:xfrm>
        <a:graphic>
          <a:graphicData uri="http://schemas.openxmlformats.org/drawingml/2006/table">
            <a:tbl>
              <a:tblPr/>
              <a:tblGrid>
                <a:gridCol w="1103400"/>
                <a:gridCol w="1697040"/>
                <a:gridCol w="1103400"/>
                <a:gridCol w="1104840"/>
                <a:gridCol w="1103400"/>
                <a:gridCol w="1103040"/>
              </a:tblGrid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NTRAINTES SUPPLÉMENTA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pic>
        <p:nvPicPr>
          <p:cNvPr id="189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e 27"/>
          <p:cNvGrpSpPr/>
          <p:nvPr/>
        </p:nvGrpSpPr>
        <p:grpSpPr>
          <a:xfrm>
            <a:off x="71280" y="1714680"/>
            <a:ext cx="5929560" cy="3143160"/>
            <a:chOff x="71280" y="1714680"/>
            <a:chExt cx="5929560" cy="3143160"/>
          </a:xfrm>
        </p:grpSpPr>
        <p:grpSp>
          <p:nvGrpSpPr>
            <p:cNvPr id="191" name="Groupe 25"/>
            <p:cNvGrpSpPr/>
            <p:nvPr/>
          </p:nvGrpSpPr>
          <p:grpSpPr>
            <a:xfrm>
              <a:off x="71280" y="2292120"/>
              <a:ext cx="5929560" cy="2565720"/>
              <a:chOff x="71280" y="2292120"/>
              <a:chExt cx="5929560" cy="2565720"/>
            </a:xfrm>
          </p:grpSpPr>
          <p:sp>
            <p:nvSpPr>
              <p:cNvPr id="192" name="Rectangle 7"/>
              <p:cNvSpPr/>
              <p:nvPr/>
            </p:nvSpPr>
            <p:spPr>
              <a:xfrm>
                <a:off x="1043280" y="2292120"/>
                <a:ext cx="3839760" cy="2565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Rectangle 34"/>
              <p:cNvSpPr/>
              <p:nvPr/>
            </p:nvSpPr>
            <p:spPr>
              <a:xfrm>
                <a:off x="3036240" y="3656880"/>
                <a:ext cx="1409400" cy="873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185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Rectangle 28"/>
              <p:cNvSpPr/>
              <p:nvPr/>
            </p:nvSpPr>
            <p:spPr>
              <a:xfrm>
                <a:off x="2987280" y="2455560"/>
                <a:ext cx="1458000" cy="1091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Rectangle 23"/>
              <p:cNvSpPr/>
              <p:nvPr/>
            </p:nvSpPr>
            <p:spPr>
              <a:xfrm>
                <a:off x="1334880" y="2510280"/>
                <a:ext cx="1458000" cy="2074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ZoneTexte 14"/>
              <p:cNvSpPr/>
              <p:nvPr/>
            </p:nvSpPr>
            <p:spPr>
              <a:xfrm>
                <a:off x="2355480" y="2813400"/>
                <a:ext cx="583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Inf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Rectangle 20"/>
              <p:cNvSpPr/>
              <p:nvPr/>
            </p:nvSpPr>
            <p:spPr>
              <a:xfrm>
                <a:off x="1480680" y="2619360"/>
                <a:ext cx="1215000" cy="748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Loger le pai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tangle 21"/>
              <p:cNvSpPr/>
              <p:nvPr/>
            </p:nvSpPr>
            <p:spPr>
              <a:xfrm>
                <a:off x="3133440" y="2619360"/>
                <a:ext cx="1215000" cy="748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Griller le pai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Rectangle 22"/>
              <p:cNvSpPr/>
              <p:nvPr/>
            </p:nvSpPr>
            <p:spPr>
              <a:xfrm>
                <a:off x="3133440" y="3765960"/>
                <a:ext cx="1215000" cy="654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185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Avertir que c’est prêt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Rectangle 77"/>
              <p:cNvSpPr/>
              <p:nvPr/>
            </p:nvSpPr>
            <p:spPr>
              <a:xfrm>
                <a:off x="1480680" y="3765960"/>
                <a:ext cx="1215000" cy="654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Expulser le pai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ZoneTexte 24"/>
              <p:cNvSpPr/>
              <p:nvPr/>
            </p:nvSpPr>
            <p:spPr>
              <a:xfrm>
                <a:off x="71280" y="3711600"/>
                <a:ext cx="1166400" cy="5508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SOUS-SYSTÈME: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LOGEMENT ET EXPULSIO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02" name="Connecteur droit avec flèche 26"/>
              <p:cNvCxnSpPr>
                <a:stCxn id="201" idx="0"/>
                <a:endCxn id="195" idx="1"/>
              </p:cNvCxnSpPr>
              <p:nvPr/>
            </p:nvCxnSpPr>
            <p:spPr>
              <a:xfrm flipV="1">
                <a:off x="654480" y="3547440"/>
                <a:ext cx="681120" cy="16416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203" name="ZoneTexte 29"/>
              <p:cNvSpPr/>
              <p:nvPr/>
            </p:nvSpPr>
            <p:spPr>
              <a:xfrm>
                <a:off x="4688640" y="2674080"/>
                <a:ext cx="1263600" cy="398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SOUS-SYSTÈME: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GRILLAGE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04" name="Connecteur droit avec flèche 31"/>
              <p:cNvCxnSpPr>
                <a:stCxn id="203" idx="1"/>
                <a:endCxn id="194" idx="3"/>
              </p:cNvCxnSpPr>
              <p:nvPr/>
            </p:nvCxnSpPr>
            <p:spPr>
              <a:xfrm flipH="1">
                <a:off x="4444920" y="2871000"/>
                <a:ext cx="243720" cy="12996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205" name="ZoneTexte 36"/>
              <p:cNvSpPr/>
              <p:nvPr/>
            </p:nvSpPr>
            <p:spPr>
              <a:xfrm>
                <a:off x="4737240" y="3875400"/>
                <a:ext cx="1263600" cy="398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SOUS-SYSTÈME: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ALERTE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06" name="Connecteur droit avec flèche 37"/>
              <p:cNvCxnSpPr>
                <a:stCxn id="205" idx="1"/>
                <a:endCxn id="193" idx="3"/>
              </p:cNvCxnSpPr>
              <p:nvPr/>
            </p:nvCxnSpPr>
            <p:spPr>
              <a:xfrm flipH="1">
                <a:off x="4445640" y="4073400"/>
                <a:ext cx="291960" cy="208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</p:grpSp>
        <p:pic>
          <p:nvPicPr>
            <p:cNvPr id="207" name="ZoneTexte 40" descr=""/>
            <p:cNvPicPr/>
            <p:nvPr/>
          </p:nvPicPr>
          <p:blipFill>
            <a:blip r:embed="rId3"/>
            <a:stretch/>
          </p:blipFill>
          <p:spPr>
            <a:xfrm>
              <a:off x="1011600" y="1714680"/>
              <a:ext cx="2584800" cy="4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Rectangle 30"/>
          <p:cNvSpPr/>
          <p:nvPr/>
        </p:nvSpPr>
        <p:spPr>
          <a:xfrm>
            <a:off x="6000840" y="2357280"/>
            <a:ext cx="2857320" cy="2571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alibri"/>
              </a:rPr>
              <a:t>Contrain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Alimentation électr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Format: moins de 3 pi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Largeur max 24 p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Doit loger 2 tranches m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Coût – de 100$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857160" y="2809800"/>
          <a:ext cx="7215120" cy="2905200"/>
        </p:xfrm>
        <a:graphic>
          <a:graphicData uri="http://schemas.openxmlformats.org/drawingml/2006/table">
            <a:tbl>
              <a:tblPr/>
              <a:tblGrid>
                <a:gridCol w="1103400"/>
                <a:gridCol w="1697040"/>
                <a:gridCol w="1103400"/>
                <a:gridCol w="1104840"/>
                <a:gridCol w="1103400"/>
                <a:gridCol w="1103040"/>
              </a:tblGrid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Matrice morph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213" name="Sous-titre 2"/>
          <p:cNvSpPr/>
          <p:nvPr/>
        </p:nvSpPr>
        <p:spPr>
          <a:xfrm>
            <a:off x="428760" y="1928880"/>
            <a:ext cx="85010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es contraintes ont donc éliminé certains conce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Contraintes supplémentaires : Faisabilité, simplicité, coût, environnement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215" name="Connecteur droit 8"/>
          <p:cNvSpPr/>
          <p:nvPr/>
        </p:nvSpPr>
        <p:spPr>
          <a:xfrm>
            <a:off x="3714840" y="4286160"/>
            <a:ext cx="1000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Connecteur droit 10"/>
          <p:cNvSpPr/>
          <p:nvPr/>
        </p:nvSpPr>
        <p:spPr>
          <a:xfrm>
            <a:off x="6000840" y="4857840"/>
            <a:ext cx="71424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Connecteur droit 11"/>
          <p:cNvSpPr/>
          <p:nvPr/>
        </p:nvSpPr>
        <p:spPr>
          <a:xfrm flipV="1">
            <a:off x="4857840" y="5357880"/>
            <a:ext cx="85716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857160" y="2809800"/>
          <a:ext cx="7215120" cy="2905200"/>
        </p:xfrm>
        <a:graphic>
          <a:graphicData uri="http://schemas.openxmlformats.org/drawingml/2006/table">
            <a:tbl>
              <a:tblPr/>
              <a:tblGrid>
                <a:gridCol w="1103400"/>
                <a:gridCol w="1697040"/>
                <a:gridCol w="1103400"/>
                <a:gridCol w="1104840"/>
                <a:gridCol w="1103400"/>
                <a:gridCol w="1103040"/>
              </a:tblGrid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Ellipse 13"/>
          <p:cNvSpPr/>
          <p:nvPr/>
        </p:nvSpPr>
        <p:spPr>
          <a:xfrm>
            <a:off x="3714840" y="3500280"/>
            <a:ext cx="100008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hoix des concepts fin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223" name="Sous-titre 2"/>
          <p:cNvSpPr/>
          <p:nvPr/>
        </p:nvSpPr>
        <p:spPr>
          <a:xfrm>
            <a:off x="428760" y="1714680"/>
            <a:ext cx="850104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Ensemble nous choisissons la combinaison de concepts rete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Rôle des mentors : S’assurer de la faisabilité de cette combinaison et des concepts individu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225" name="Connecteur droit 8"/>
          <p:cNvSpPr/>
          <p:nvPr/>
        </p:nvSpPr>
        <p:spPr>
          <a:xfrm>
            <a:off x="3714840" y="4286160"/>
            <a:ext cx="1000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Connecteur droit 10"/>
          <p:cNvSpPr/>
          <p:nvPr/>
        </p:nvSpPr>
        <p:spPr>
          <a:xfrm>
            <a:off x="6000840" y="4857840"/>
            <a:ext cx="71424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Connecteur droit 11"/>
          <p:cNvSpPr/>
          <p:nvPr/>
        </p:nvSpPr>
        <p:spPr>
          <a:xfrm flipV="1">
            <a:off x="4857840" y="5357880"/>
            <a:ext cx="85716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llipse 14"/>
          <p:cNvSpPr/>
          <p:nvPr/>
        </p:nvSpPr>
        <p:spPr>
          <a:xfrm>
            <a:off x="5929200" y="4071960"/>
            <a:ext cx="1000080" cy="4287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llipse 15"/>
          <p:cNvSpPr/>
          <p:nvPr/>
        </p:nvSpPr>
        <p:spPr>
          <a:xfrm>
            <a:off x="3714840" y="4643280"/>
            <a:ext cx="1000080" cy="42876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llipse 16"/>
          <p:cNvSpPr/>
          <p:nvPr/>
        </p:nvSpPr>
        <p:spPr>
          <a:xfrm>
            <a:off x="5929200" y="5214960"/>
            <a:ext cx="1000080" cy="42876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</a:rPr>
              <a:t>Créer la structure fonctionnelle détaillé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pic>
        <p:nvPicPr>
          <p:cNvPr id="23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7"/>
          <p:cNvSpPr/>
          <p:nvPr/>
        </p:nvSpPr>
        <p:spPr>
          <a:xfrm>
            <a:off x="714240" y="2428920"/>
            <a:ext cx="7572600" cy="36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ous-titre 2"/>
          <p:cNvSpPr/>
          <p:nvPr/>
        </p:nvSpPr>
        <p:spPr>
          <a:xfrm>
            <a:off x="571680" y="157176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EX: Robot de l’an dern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-285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856800"/>
            <a:ext cx="6400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Méthodologie pour démar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4" descr="first.jpg"/>
          <p:cNvPicPr/>
          <p:nvPr/>
        </p:nvPicPr>
        <p:blipFill>
          <a:blip r:embed="rId1"/>
          <a:stretch/>
        </p:blipFill>
        <p:spPr>
          <a:xfrm>
            <a:off x="7329600" y="142920"/>
            <a:ext cx="1671480" cy="1455840"/>
          </a:xfrm>
          <a:prstGeom prst="rect">
            <a:avLst/>
          </a:prstGeom>
          <a:ln w="0">
            <a:noFill/>
          </a:ln>
        </p:spPr>
      </p:pic>
      <p:sp>
        <p:nvSpPr>
          <p:cNvPr id="49" name="Sous-titre 2"/>
          <p:cNvSpPr/>
          <p:nvPr/>
        </p:nvSpPr>
        <p:spPr>
          <a:xfrm>
            <a:off x="714240" y="1928880"/>
            <a:ext cx="640080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Introdu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-Origine de 6Sig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-Compagnies qui l’utilis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-Outils que nous utilise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1357200" y="3643200"/>
            <a:ext cx="962280" cy="9432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2428920" y="3714840"/>
            <a:ext cx="1247760" cy="87624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5"/>
          <a:stretch/>
        </p:blipFill>
        <p:spPr>
          <a:xfrm>
            <a:off x="3786120" y="3643200"/>
            <a:ext cx="905040" cy="9144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54" name="Image 11" descr="Logo FULL.JPG"/>
          <p:cNvPicPr/>
          <p:nvPr/>
        </p:nvPicPr>
        <p:blipFill>
          <a:blip r:embed="rId6"/>
          <a:stretch/>
        </p:blipFill>
        <p:spPr>
          <a:xfrm>
            <a:off x="4786200" y="3719520"/>
            <a:ext cx="3591000" cy="709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55" name="Sous-titre 2"/>
          <p:cNvSpPr/>
          <p:nvPr/>
        </p:nvSpPr>
        <p:spPr>
          <a:xfrm>
            <a:off x="500040" y="6286680"/>
            <a:ext cx="2643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000" spc="-1" strike="noStrike">
                <a:solidFill>
                  <a:srgbClr val="000000"/>
                </a:solidFill>
                <a:latin typeface="Calibri"/>
              </a:rPr>
              <a:t>Logos et terme 6S protégés par droits d’aute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é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59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Système : Un système est un ensemble d'éléments interagissant entre eux. (ie. Le robo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Sous-système : Portion d’une machine qui exécute une catégorie de fonctions (ie. Les canons à balles dans FRC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Fonction : VERBE + NOM (ie. Bouger le robo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Concept : Manière simple d’exécuter une fo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Pourquoi utiliser cette méth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64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S’assurer que le problème est bien défini et bien comp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Pour diviser le problème en éléments faciles à travail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Permettre de générer le plus de conce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Orienter les efforts du groupe dans la même dir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BREF : S’entendre sur le QUOI avant le COMMENT 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Outils que nous pouvons utili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Image 3" descr="Final-Front Logo First.jpg"/>
          <p:cNvPicPr/>
          <p:nvPr/>
        </p:nvPicPr>
        <p:blipFill>
          <a:blip r:embed="rId1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69" name="Sous-titre 2"/>
          <p:cNvSpPr/>
          <p:nvPr/>
        </p:nvSpPr>
        <p:spPr>
          <a:xfrm>
            <a:off x="500040" y="2071800"/>
            <a:ext cx="83581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Type de diagramme en bloc utilisé pour le design de systè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Matrice Morphologiqu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Table montrant les sous-fonctions du système et les solutions possibles pour ces sous-fon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73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Voici un format de structure fonctionnelle glob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3286080" y="3214800"/>
            <a:ext cx="228600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alibri"/>
              </a:rPr>
              <a:t>FONCTION GLOB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Connecteur droit avec flèche 9"/>
          <p:cNvCxnSpPr/>
          <p:nvPr/>
        </p:nvCxnSpPr>
        <p:spPr>
          <a:xfrm>
            <a:off x="1643040" y="34290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ZoneTexte 10"/>
          <p:cNvSpPr/>
          <p:nvPr/>
        </p:nvSpPr>
        <p:spPr>
          <a:xfrm>
            <a:off x="1571760" y="30718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Connecteur droit avec flèche 11"/>
          <p:cNvCxnSpPr/>
          <p:nvPr/>
        </p:nvCxnSpPr>
        <p:spPr>
          <a:xfrm>
            <a:off x="164304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ZoneTexte 12"/>
          <p:cNvSpPr/>
          <p:nvPr/>
        </p:nvSpPr>
        <p:spPr>
          <a:xfrm>
            <a:off x="1571760" y="35593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Matér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Connecteur droit avec flèche 13"/>
          <p:cNvCxnSpPr/>
          <p:nvPr/>
        </p:nvCxnSpPr>
        <p:spPr>
          <a:xfrm>
            <a:off x="1643040" y="450072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81" name="ZoneTexte 14"/>
          <p:cNvSpPr/>
          <p:nvPr/>
        </p:nvSpPr>
        <p:spPr>
          <a:xfrm>
            <a:off x="1571760" y="41432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Connecteur droit avec flèche 15"/>
          <p:cNvCxnSpPr/>
          <p:nvPr/>
        </p:nvCxnSpPr>
        <p:spPr>
          <a:xfrm>
            <a:off x="5572080" y="34290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Connecteur droit avec flèche 16"/>
          <p:cNvCxnSpPr/>
          <p:nvPr/>
        </p:nvCxnSpPr>
        <p:spPr>
          <a:xfrm>
            <a:off x="557208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ZoneTexte 17"/>
          <p:cNvSpPr/>
          <p:nvPr/>
        </p:nvSpPr>
        <p:spPr>
          <a:xfrm>
            <a:off x="5786280" y="35593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Matér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Connecteur droit avec flèche 18"/>
          <p:cNvCxnSpPr/>
          <p:nvPr/>
        </p:nvCxnSpPr>
        <p:spPr>
          <a:xfrm>
            <a:off x="5572080" y="450072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86" name="ZoneTexte 19"/>
          <p:cNvSpPr/>
          <p:nvPr/>
        </p:nvSpPr>
        <p:spPr>
          <a:xfrm>
            <a:off x="5786280" y="41432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25"/>
          <p:cNvSpPr/>
          <p:nvPr/>
        </p:nvSpPr>
        <p:spPr>
          <a:xfrm>
            <a:off x="5786280" y="30718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 glob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91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EX: GRILLE P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286080" y="3214800"/>
            <a:ext cx="228600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alibri"/>
              </a:rPr>
              <a:t>Griller des tranches de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Connecteur droit avec flèche 9"/>
          <p:cNvCxnSpPr/>
          <p:nvPr/>
        </p:nvCxnSpPr>
        <p:spPr>
          <a:xfrm>
            <a:off x="1643040" y="34290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ZoneTexte 10"/>
          <p:cNvSpPr/>
          <p:nvPr/>
        </p:nvSpPr>
        <p:spPr>
          <a:xfrm>
            <a:off x="1571760" y="30718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Connecteur droit avec flèche 11"/>
          <p:cNvCxnSpPr/>
          <p:nvPr/>
        </p:nvCxnSpPr>
        <p:spPr>
          <a:xfrm>
            <a:off x="164304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7" name="ZoneTexte 12"/>
          <p:cNvSpPr/>
          <p:nvPr/>
        </p:nvSpPr>
        <p:spPr>
          <a:xfrm>
            <a:off x="1571760" y="35593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Connecteur droit avec flèche 16"/>
          <p:cNvCxnSpPr/>
          <p:nvPr/>
        </p:nvCxnSpPr>
        <p:spPr>
          <a:xfrm>
            <a:off x="557208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ZoneTexte 17"/>
          <p:cNvSpPr/>
          <p:nvPr/>
        </p:nvSpPr>
        <p:spPr>
          <a:xfrm>
            <a:off x="5786280" y="35593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ain grill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Connecteur droit avec flèche 18"/>
          <p:cNvCxnSpPr/>
          <p:nvPr/>
        </p:nvCxnSpPr>
        <p:spPr>
          <a:xfrm>
            <a:off x="5572080" y="450072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01" name="ZoneTexte 19"/>
          <p:cNvSpPr/>
          <p:nvPr/>
        </p:nvSpPr>
        <p:spPr>
          <a:xfrm>
            <a:off x="5786280" y="414324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Avertis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 glob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105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EX: VÉ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3286080" y="3214800"/>
            <a:ext cx="228600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alibri"/>
              </a:rPr>
              <a:t>Déplacer un humain de manière auton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Connecteur droit avec flèche 9"/>
          <p:cNvCxnSpPr/>
          <p:nvPr/>
        </p:nvCxnSpPr>
        <p:spPr>
          <a:xfrm>
            <a:off x="1643040" y="34290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ZoneTexte 10"/>
          <p:cNvSpPr/>
          <p:nvPr/>
        </p:nvSpPr>
        <p:spPr>
          <a:xfrm>
            <a:off x="1071720" y="307188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 huma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Connecteur droit avec flèche 11"/>
          <p:cNvCxnSpPr/>
          <p:nvPr/>
        </p:nvCxnSpPr>
        <p:spPr>
          <a:xfrm>
            <a:off x="164304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1" name="ZoneTexte 12"/>
          <p:cNvSpPr/>
          <p:nvPr/>
        </p:nvSpPr>
        <p:spPr>
          <a:xfrm>
            <a:off x="1571760" y="35593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Cycli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Connecteur droit avec flèche 15"/>
          <p:cNvCxnSpPr/>
          <p:nvPr/>
        </p:nvCxnSpPr>
        <p:spPr>
          <a:xfrm>
            <a:off x="5572080" y="421488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3" name="ZoneTexte 20"/>
          <p:cNvSpPr/>
          <p:nvPr/>
        </p:nvSpPr>
        <p:spPr>
          <a:xfrm>
            <a:off x="5643720" y="385776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Déplac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 détaill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117" name="Sous-titre 2"/>
          <p:cNvSpPr/>
          <p:nvPr/>
        </p:nvSpPr>
        <p:spPr>
          <a:xfrm>
            <a:off x="500040" y="1785960"/>
            <a:ext cx="83581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Voici un format de structure fonctionnelle détaill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2071800" y="2500200"/>
            <a:ext cx="528624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Connecteur droit avec flèche 9"/>
          <p:cNvCxnSpPr/>
          <p:nvPr/>
        </p:nvCxnSpPr>
        <p:spPr>
          <a:xfrm>
            <a:off x="714240" y="292896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1" name="ZoneTexte 10"/>
          <p:cNvSpPr/>
          <p:nvPr/>
        </p:nvSpPr>
        <p:spPr>
          <a:xfrm>
            <a:off x="714240" y="257184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Connecteur droit avec flèche 11"/>
          <p:cNvCxnSpPr/>
          <p:nvPr/>
        </p:nvCxnSpPr>
        <p:spPr>
          <a:xfrm>
            <a:off x="714240" y="32148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3" name="ZoneTexte 12"/>
          <p:cNvSpPr/>
          <p:nvPr/>
        </p:nvSpPr>
        <p:spPr>
          <a:xfrm>
            <a:off x="714240" y="292896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Matéri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" name="Connecteur droit avec flèche 13"/>
          <p:cNvCxnSpPr>
            <a:stCxn id="125" idx="2"/>
            <a:endCxn id="126" idx="0"/>
          </p:cNvCxnSpPr>
          <p:nvPr/>
        </p:nvCxnSpPr>
        <p:spPr>
          <a:xfrm flipH="1">
            <a:off x="4606560" y="3214800"/>
            <a:ext cx="2160" cy="71640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27" name="ZoneTexte 14"/>
          <p:cNvSpPr/>
          <p:nvPr/>
        </p:nvSpPr>
        <p:spPr>
          <a:xfrm>
            <a:off x="4643280" y="335772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Connecteur droit avec flèche 15"/>
          <p:cNvCxnSpPr>
            <a:stCxn id="129" idx="2"/>
          </p:cNvCxnSpPr>
          <p:nvPr/>
        </p:nvCxnSpPr>
        <p:spPr>
          <a:xfrm>
            <a:off x="6321960" y="4286160"/>
            <a:ext cx="35640" cy="929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ZoneTexte 25"/>
          <p:cNvSpPr/>
          <p:nvPr/>
        </p:nvSpPr>
        <p:spPr>
          <a:xfrm>
            <a:off x="6357960" y="442908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2357280" y="2857680"/>
            <a:ext cx="121464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ous-fonc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4000680" y="2857680"/>
            <a:ext cx="12142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ous-fonction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4000680" y="3929040"/>
            <a:ext cx="12142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ous-foncti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Connecteur droit avec flèche 73"/>
          <p:cNvCxnSpPr>
            <a:stCxn id="131" idx="3"/>
            <a:endCxn id="125" idx="1"/>
          </p:cNvCxnSpPr>
          <p:nvPr/>
        </p:nvCxnSpPr>
        <p:spPr>
          <a:xfrm>
            <a:off x="3571560" y="3034800"/>
            <a:ext cx="429480" cy="2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9" name="Rectangle 77"/>
          <p:cNvSpPr/>
          <p:nvPr/>
        </p:nvSpPr>
        <p:spPr>
          <a:xfrm>
            <a:off x="5715000" y="3929040"/>
            <a:ext cx="12142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ous-fonction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Connecteur droit avec flèche 78"/>
          <p:cNvCxnSpPr>
            <a:stCxn id="126" idx="3"/>
            <a:endCxn id="129" idx="1"/>
          </p:cNvCxnSpPr>
          <p:nvPr/>
        </p:nvCxnSpPr>
        <p:spPr>
          <a:xfrm>
            <a:off x="5214600" y="4107960"/>
            <a:ext cx="500760" cy="2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Connecteur droit avec flèche 81"/>
          <p:cNvCxnSpPr>
            <a:stCxn id="125" idx="3"/>
            <a:endCxn id="129" idx="0"/>
          </p:cNvCxnSpPr>
          <p:nvPr/>
        </p:nvCxnSpPr>
        <p:spPr>
          <a:xfrm>
            <a:off x="5214960" y="3034800"/>
            <a:ext cx="1108800" cy="89460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8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7:55:36Z</dcterms:created>
  <dc:creator>rnoel</dc:creator>
  <dc:description/>
  <dc:language>en-US</dc:language>
  <cp:lastModifiedBy>glaporte</cp:lastModifiedBy>
  <dcterms:modified xsi:type="dcterms:W3CDTF">2009-12-12T13:57:02Z</dcterms:modified>
  <cp:revision>64</cp:revision>
  <dc:subject/>
  <dc:title>ATELIER DE CONCEPTION</dc:title>
</cp:coreProperties>
</file>